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C7224-1F06-49F1-870D-CB8368435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32C3B-4162-434C-8C9B-4EDC2BA4C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C9701-5BC1-43C7-95CE-2B16568C2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184EF-6646-4893-B1D2-D6791F99C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5133B-D0AD-4458-BC7E-E74C9EA25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CDDFF-1B1D-46FE-9763-70303B9F8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12CCB-F6B5-4001-BB7A-9EAFBED76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D374A-E8C0-446A-AD3B-B40692772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BF487-02F8-40C8-88C4-DF681D5B1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083AF-35D2-4DE8-B1CD-D20D5AE5D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C06FF-663E-4555-A069-500823F9B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9865F-BD79-43F2-BAB9-DD31D404B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FAF25-E28C-4B34-A1FD-0EA618272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94389-2506-46D9-8608-8BA68AFBB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40979-65C2-481C-87D9-2D6D4E37C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61A63-A5A6-4F1B-B1CE-91581CA73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6015A-2746-4234-B453-AE2C5091C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EABA7-061E-401D-9774-A6A999E50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D06D2-1F20-4B4B-B97C-297E3D8D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A6A21-4ADF-446C-90D8-C0E395E48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C4381-0419-45DE-9DE9-64808DD8F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178CE-11C0-4337-84DB-8AACB6B93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6985B-EA11-4566-B49E-29654C79B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EBD66-81EA-4558-922B-849E2711B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12C8-C880-498B-8598-9661DF272DF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01C8-F340-4F8F-83FE-994F083D4B7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ro to Canterbury Tales and Chaucer</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a:t>
            </a:r>
            <a:r>
              <a:rPr b="0" lang="en-US" sz="3200" spc="-1" strike="noStrike" baseline="30000">
                <a:solidFill>
                  <a:srgbClr val="003366"/>
                </a:solidFill>
                <a:latin typeface="Times New Roman"/>
              </a:rPr>
              <a:t>th</a:t>
            </a:r>
            <a:r>
              <a:rPr b="0" lang="en-US" sz="3200" spc="-1" strike="noStrike">
                <a:solidFill>
                  <a:srgbClr val="003366"/>
                </a:solidFill>
                <a:latin typeface="Times New Roman"/>
              </a:rPr>
              <a:t> Grade English CP</a:t>
            </a:r>
            <a:endParaRPr b="0" lang="en-US" sz="3200" spc="-1" strike="noStrike">
              <a:solidFill>
                <a:srgbClr val="003366"/>
              </a:solidFill>
              <a:latin typeface="Times New Roman"/>
            </a:endParaRPr>
          </a:p>
        </p:txBody>
      </p:sp>
      <p:pic>
        <p:nvPicPr>
          <p:cNvPr id="292" name="" descr=""/>
          <p:cNvPicPr/>
          <p:nvPr/>
        </p:nvPicPr>
        <p:blipFill>
          <a:blip r:embed="rId1"/>
          <a:stretch/>
        </p:blipFill>
        <p:spPr>
          <a:xfrm>
            <a:off x="3276720" y="3429000"/>
            <a:ext cx="2628720" cy="27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History Continued</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en </a:t>
            </a:r>
            <a:r>
              <a:rPr b="0" i="1" lang="en-US" sz="2800" spc="-1" strike="noStrike">
                <a:solidFill>
                  <a:srgbClr val="003366"/>
                </a:solidFill>
                <a:latin typeface="Times New Roman"/>
              </a:rPr>
              <a:t>The Canterbury Tales</a:t>
            </a:r>
            <a:r>
              <a:rPr b="0" lang="en-US" sz="2800" spc="-1" strike="noStrike">
                <a:solidFill>
                  <a:srgbClr val="003366"/>
                </a:solidFill>
                <a:latin typeface="Times New Roman"/>
              </a:rPr>
              <a:t> were written:</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ristianity was the dominant social force throughout western Europe, including England. </a:t>
            </a:r>
            <a:endParaRPr b="0" lang="en-US" sz="24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 1388, while Chaucer was working on the tales, a change occurred in the way that Christianity was perceived and practiced when John Wycliffe, an English reformer,</a:t>
            </a:r>
            <a:endParaRPr b="0" lang="en-US" sz="24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leased a version of the Bible translated into English. For the first time, people from the lower classes, who had not been educated in Latin, could read the Bible themselves instead of having its word interpreted to them by members of the clergy. </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he Canterbury Tales</a:t>
            </a:r>
            <a:endParaRPr b="0" lang="en-US" sz="4400" spc="-1" strike="noStrike">
              <a:solidFill>
                <a:srgbClr val="003366"/>
              </a:solidFill>
              <a:latin typeface="Times New Roman"/>
            </a:endParaRPr>
          </a:p>
        </p:txBody>
      </p:sp>
      <p:sp>
        <p:nvSpPr>
          <p:cNvPr id="31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gan to write C.T. in 1387 A.D.</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haucer’s view of life in the city of Londo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any sources are quoted</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vid, Vigil </a:t>
            </a:r>
            <a:r>
              <a:rPr b="0" lang="en-US" sz="2400" spc="-1" strike="noStrike">
                <a:solidFill>
                  <a:srgbClr val="800000"/>
                </a:solidFill>
                <a:latin typeface="Times New Roman"/>
              </a:rPr>
              <a:t>(Roman poet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ugustine, Boethius </a:t>
            </a:r>
            <a:r>
              <a:rPr b="0" lang="en-US" sz="2400" spc="-1" strike="noStrike">
                <a:solidFill>
                  <a:srgbClr val="800000"/>
                </a:solidFill>
                <a:latin typeface="Times New Roman"/>
              </a:rPr>
              <a:t>(Roman statesmen, philosophers, and poets)</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scartes </a:t>
            </a:r>
            <a:r>
              <a:rPr b="0" lang="en-US" sz="2400" spc="-1" strike="noStrike">
                <a:solidFill>
                  <a:srgbClr val="800000"/>
                </a:solidFill>
                <a:latin typeface="Times New Roman"/>
              </a:rPr>
              <a:t>(French philosopher, mathematician, and scientis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ante and Petrarch </a:t>
            </a:r>
            <a:r>
              <a:rPr b="0" lang="en-US" sz="2400" spc="-1" strike="noStrike">
                <a:solidFill>
                  <a:srgbClr val="800000"/>
                </a:solidFill>
                <a:latin typeface="Times New Roman"/>
              </a:rPr>
              <a:t>(Italian poet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he C.T. continued</a:t>
            </a:r>
            <a:endParaRPr b="0" lang="en-US" sz="4400" spc="-1" strike="noStrike">
              <a:solidFill>
                <a:srgbClr val="003366"/>
              </a:solidFill>
              <a:latin typeface="Times New Roman"/>
            </a:endParaRPr>
          </a:p>
        </p:txBody>
      </p:sp>
      <p:sp>
        <p:nvSpPr>
          <p:cNvPr id="3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llection of short stories written in verse</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ramed by a journey and told by travelers</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ritten in Middle English (uncommon at the time), not French or Latin.</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ll-received</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spiration not certain, but could have been his own pilgrimage to Canterbury.</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is window overlooked the trail travelers took on this pilgrimage.</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Canterbury Tales continued</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stories range in genres and forms</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24 of the proposed 120 were completed</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haracters have depth</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reated through</a:t>
            </a:r>
            <a:endParaRPr b="0" lang="en-US" sz="24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hysical description</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teractions</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ir personal tales</a:t>
            </a:r>
            <a:endParaRPr b="0" lang="en-US" sz="20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snapshot of medieval social life</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bining elements of all classes, from nobles to workers, from priests and nuns to drunkards and thieves.</a:t>
            </a:r>
            <a:endParaRPr b="0" lang="en-US" sz="2400" spc="-1" strike="noStrike">
              <a:solidFill>
                <a:srgbClr val="003366"/>
              </a:solidFill>
              <a:latin typeface="Times New Roman"/>
            </a:endParaRPr>
          </a:p>
          <a:p>
            <a:pPr lvl="2" marL="1085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The Canterbury Pilgrimage Trail</a:t>
            </a:r>
            <a:endParaRPr b="0" lang="en-US" sz="4000" spc="-1" strike="noStrike">
              <a:solidFill>
                <a:srgbClr val="003366"/>
              </a:solidFill>
              <a:latin typeface="Times New Roman"/>
            </a:endParaRPr>
          </a:p>
        </p:txBody>
      </p:sp>
      <p:sp>
        <p:nvSpPr>
          <p:cNvPr id="3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21" name="" descr=""/>
          <p:cNvPicPr/>
          <p:nvPr/>
        </p:nvPicPr>
        <p:blipFill>
          <a:blip r:embed="rId1"/>
          <a:stretch/>
        </p:blipFill>
        <p:spPr>
          <a:xfrm>
            <a:off x="152280" y="1676520"/>
            <a:ext cx="8839440" cy="5019480"/>
          </a:xfrm>
          <a:prstGeom prst="rect">
            <a:avLst/>
          </a:prstGeom>
          <a:ln w="0">
            <a:noFill/>
          </a:ln>
        </p:spPr>
      </p:pic>
      <p:sp>
        <p:nvSpPr>
          <p:cNvPr id="322" name=""/>
          <p:cNvSpPr/>
          <p:nvPr/>
        </p:nvSpPr>
        <p:spPr>
          <a:xfrm>
            <a:off x="0" y="6553080"/>
            <a:ext cx="800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http://faculty.arts.ubc.ca/sechard/GRAPHICS/pilgmap.jpg</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ypes of medieval literature</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omance: a narrative in metrical verse; tales of love, adventure, knightly combat, and ceremon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bliau: stories based on trickery and deception; often involves adulter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yth: a story originating in classical literatur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ypes Continued</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reton Lais: a type of fairy tale; set in Brittany province of France; contains fairies, elves, folk wisdom, and folktal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ast Fable: animals personify human qualities and act out human situations; usually teaches a lesson.</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rmon: a Christian lesso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ypes Continued</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emplum: a story which teaches a well-known lesson</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llegory: a tale in which a person represent abstract qualities (death, virtue, love)</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ock Romance: parodies, or makes fun, of the usual subjects of a romanc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he Life and Work of Chaucer</a:t>
            </a:r>
            <a:endParaRPr b="0" lang="en-US" sz="4400" spc="-1" strike="noStrike">
              <a:solidFill>
                <a:srgbClr val="003366"/>
              </a:solidFill>
              <a:latin typeface="Times New Roman"/>
            </a:endParaRPr>
          </a:p>
        </p:txBody>
      </p:sp>
      <p:sp>
        <p:nvSpPr>
          <p:cNvPr id="294" name="PlaceHolder 2"/>
          <p:cNvSpPr>
            <a:spLocks noGrp="1"/>
          </p:cNvSpPr>
          <p:nvPr>
            <p:ph/>
          </p:nvPr>
        </p:nvSpPr>
        <p:spPr>
          <a:xfrm>
            <a:off x="762120" y="2590560"/>
            <a:ext cx="7958160" cy="38811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irst name Geoffrey</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ther of English Literature</a:t>
            </a:r>
            <a:endParaRPr b="0" lang="en-US" sz="24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orn between 1340 and 1345</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her, John, was a wealthy man</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iddle-class </a:t>
            </a:r>
            <a:endParaRPr b="0" lang="en-US" sz="24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ived in Vintry District of London</a:t>
            </a: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nt to St. Paul’s Almonery School</a:t>
            </a:r>
            <a:endParaRPr b="0" lang="en-US" sz="28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earned Latin, rhetoric, religion, philosophy, science, and French</a:t>
            </a:r>
            <a:endParaRPr b="0" lang="en-US" sz="2400" spc="-1" strike="noStrike">
              <a:solidFill>
                <a:srgbClr val="003366"/>
              </a:solidFill>
              <a:latin typeface="Times New Roman"/>
            </a:endParaRPr>
          </a:p>
        </p:txBody>
      </p:sp>
      <p:pic>
        <p:nvPicPr>
          <p:cNvPr id="295" name="" descr=""/>
          <p:cNvPicPr/>
          <p:nvPr/>
        </p:nvPicPr>
        <p:blipFill>
          <a:blip r:embed="rId1"/>
          <a:stretch/>
        </p:blipFill>
        <p:spPr>
          <a:xfrm>
            <a:off x="6781680" y="2057400"/>
            <a:ext cx="2175120" cy="302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Life continued</a:t>
            </a:r>
            <a:endParaRPr b="0" lang="en-US" sz="44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nt into military service in 1359</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359 captured while serving in English Army in France – Kind Edward paid 16 pound ransom</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rried Philippa Pan in 1366</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ady-in-waiting to the quee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More Life</a:t>
            </a:r>
            <a:endParaRPr b="0" lang="en-US" sz="4400" spc="-1" strike="noStrike">
              <a:solidFill>
                <a:srgbClr val="003366"/>
              </a:solidFill>
              <a:latin typeface="Times New Roman"/>
            </a:endParaRPr>
          </a:p>
        </p:txBody>
      </p:sp>
      <p:sp>
        <p:nvSpPr>
          <p:cNvPr id="29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1372, he was sent on his first diplomatic mission to Italy.</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1374, returned to England and was named Controller of Customs for the Port of Lond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rved till 1386.</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uried at Westminster Abbey in Poet’s Corner</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The Writer</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gan writing in his 20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arly poems based on other European works</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is is a common trend (i.e. Shakespeare did this; </a:t>
            </a:r>
            <a:r>
              <a:rPr b="0" i="1" lang="en-US" sz="2800" spc="-1" strike="noStrike">
                <a:solidFill>
                  <a:srgbClr val="003366"/>
                </a:solidFill>
                <a:latin typeface="Times New Roman"/>
              </a:rPr>
              <a:t>Macbeth </a:t>
            </a:r>
            <a:r>
              <a:rPr b="0" lang="en-US" sz="2800" spc="-1" strike="noStrike">
                <a:solidFill>
                  <a:srgbClr val="003366"/>
                </a:solidFill>
                <a:latin typeface="Times New Roman"/>
              </a:rPr>
              <a:t>was based upon a real stories in </a:t>
            </a:r>
            <a:r>
              <a:rPr b="0" i="1" lang="en-US" sz="2800" spc="-1" strike="noStrike">
                <a:solidFill>
                  <a:srgbClr val="003366"/>
                </a:solidFill>
                <a:latin typeface="Times New Roman"/>
              </a:rPr>
              <a:t>Holinshed’s Chronicles)</a:t>
            </a:r>
            <a:endParaRPr b="0" lang="en-US" sz="28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ranslated French poetry</a:t>
            </a:r>
            <a:endParaRPr b="0" lang="en-US" sz="3200" spc="-1" strike="noStrike">
              <a:solidFill>
                <a:srgbClr val="0033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Writer</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a:t>
            </a:r>
            <a:r>
              <a:rPr b="0" lang="en-US" sz="3200" spc="-1" strike="noStrike" baseline="30000">
                <a:solidFill>
                  <a:srgbClr val="003366"/>
                </a:solidFill>
                <a:latin typeface="Times New Roman"/>
              </a:rPr>
              <a:t>st</a:t>
            </a:r>
            <a:r>
              <a:rPr b="0" lang="en-US" sz="3200" spc="-1" strike="noStrike">
                <a:solidFill>
                  <a:srgbClr val="003366"/>
                </a:solidFill>
                <a:latin typeface="Times New Roman"/>
              </a:rPr>
              <a:t> book, The Book of the Duchess, consoled John of Gaunt (his employer) on the death of his wife.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leted around 1369</a:t>
            </a:r>
            <a:endParaRPr b="0" lang="en-US" sz="2800" spc="-1" strike="noStrike">
              <a:solidFill>
                <a:srgbClr val="003366"/>
              </a:solidFill>
              <a:latin typeface="Times New Roman"/>
            </a:endParaRPr>
          </a:p>
        </p:txBody>
      </p:sp>
      <p:pic>
        <p:nvPicPr>
          <p:cNvPr id="304" name="" descr=""/>
          <p:cNvPicPr/>
          <p:nvPr/>
        </p:nvPicPr>
        <p:blipFill>
          <a:blip r:embed="rId1"/>
          <a:stretch/>
        </p:blipFill>
        <p:spPr>
          <a:xfrm>
            <a:off x="5673600" y="3429000"/>
            <a:ext cx="3086280" cy="34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Written works</a:t>
            </a: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Book of the Duches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arliament of Fowl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House of Tam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roilus and Criseyd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Legend of Good Women: A Life of St. Cecelia</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Canterbury Tale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Historical Background</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t in 14</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century Londo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uled by King and nobles who had all the political power and the Catholic Church had all authority in spiritual matter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ise in middle class because of trade and commerc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ost of the population was agrarian, poor peasant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Historical continued</a:t>
            </a: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ergy became landowner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buse and corruption began in the church.</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lague wiped out 1/3 of the population.</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381: Peasants’ Rebellion</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00:06:31Z</dcterms:created>
  <dc:creator>Katella High School</dc:creator>
  <dc:description/>
  <dc:language>en-US</dc:language>
  <cp:lastModifiedBy>Warren</cp:lastModifiedBy>
  <dcterms:modified xsi:type="dcterms:W3CDTF">2009-01-27T05:35:29Z</dcterms:modified>
  <cp:revision>6</cp:revision>
  <dc:subject/>
  <dc:title>Intro to Canterbury Tales and Chaucer</dc:title>
</cp:coreProperties>
</file>